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771-B85D-45DF-8BC9-F9C44623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E94-BBC3-47F8-B7D6-0C747157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92F-0E17-44CD-8C12-B73160AD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5D4-C5CF-488D-B7CC-F7375E01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DCC1-1C5C-43DD-8B62-0754BA45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F9A5-6215-471F-ADFE-D286FEDB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66D5-6721-46CD-86AF-50B8828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54AB-3694-40B5-828B-C8303402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185-8C2E-488F-8573-5FCDED0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7496-530F-464F-8E2B-7BC2673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632F-768E-4689-A64C-7B10AA0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CB7-4967-41B6-A5C4-FF56B82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786C-45E3-43C5-87CA-3AB75BC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7D7B-0915-4C40-B9C6-B61F708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8081-23DF-41A2-BA5D-D7F1DF2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5184-68CF-45E7-8A05-8CC55F26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62C-6CE4-4890-9E43-FB84FADB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92-C894-4E47-8865-52AC2B7B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49D-9385-40AD-887A-4318069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48E-8DCD-4B2A-991C-F65BB2E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B27-065C-4FA0-8006-EE34EA1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C32-4885-4B62-8BB1-408CBF3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D89-5496-4260-9942-17AC73AC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EDF-A41B-42B1-A189-582E65F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6D3-96DC-4107-8C17-0B57C753D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63C-87F7-4D8F-8ED4-3D8103B37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nurag Nig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56386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1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 =0 SL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0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=1 SL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880" y="1841400"/>
            <a:ext cx="8229600" cy="3276720"/>
            <a:chOff x="380880" y="1841400"/>
            <a:chExt cx="8229600" cy="32767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380880" y="1841400"/>
              <a:ext cx="80679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67360" y="1942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18320" y="3936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13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4127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se amplifier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828800"/>
            <a:ext cx="7086600" cy="4724280"/>
            <a:chOff x="609480" y="1828800"/>
            <a:chExt cx="7086600" cy="47242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0866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14400" y="5791320"/>
              <a:ext cx="12193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st bi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00200" y="51051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V characteristic of MT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te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ance is a fun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419720" y="2502000"/>
            <a:ext cx="533160" cy="1091520"/>
            <a:chOff x="4419720" y="2502000"/>
            <a:chExt cx="533160" cy="1091520"/>
          </a:xfrm>
        </p:grpSpPr>
        <p:sp>
          <p:nvSpPr>
            <p:cNvPr id="267" name=""/>
            <p:cNvSpPr/>
            <p:nvPr/>
          </p:nvSpPr>
          <p:spPr>
            <a:xfrm>
              <a:off x="4419720" y="25020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31878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Manual (using current/voltage sour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amp. Timing block, Write driver –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Kb array -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7to128DecoderSchematic(libname,cellname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WriteDrSchematic(libname,cellname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STTRAMSchematic(libname,cellname,R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Kb STT-RAM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905120"/>
            <a:ext cx="8077320" cy="4647960"/>
            <a:chOff x="457200" y="1905120"/>
            <a:chExt cx="8077320" cy="46479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8077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752480" y="438156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ming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8 x 8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1560" y="35812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5029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Writ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146320"/>
            <a:ext cx="8381880" cy="4495680"/>
            <a:chOff x="304920" y="2146320"/>
            <a:chExt cx="8381880" cy="4495680"/>
          </a:xfrm>
        </p:grpSpPr>
        <p:graphicFrame>
          <p:nvGraphicFramePr>
            <p:cNvPr id="282" name=""/>
            <p:cNvGraphicFramePr/>
            <p:nvPr/>
          </p:nvGraphicFramePr>
          <p:xfrm>
            <a:off x="304920" y="2146320"/>
            <a:ext cx="807696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146320"/>
                      <a:ext cx="807696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90720" y="4221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4567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4497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6305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2560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2560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8880" y="2560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”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47920" y="4290840"/>
              <a:ext cx="3045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971440" y="4913280"/>
              <a:ext cx="2286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467120" y="4359240"/>
              <a:ext cx="2286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T-RAM bit-cell SPI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 script to generate complete functional STT-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-specific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ing bit-cell model in 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 script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907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tim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in S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a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lati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981080"/>
            <a:ext cx="5540400" cy="3657600"/>
            <a:chOff x="0" y="1981080"/>
            <a:chExt cx="5540400" cy="3657600"/>
          </a:xfrm>
        </p:grpSpPr>
        <p:sp>
          <p:nvSpPr>
            <p:cNvPr id="104" name=""/>
            <p:cNvSpPr/>
            <p:nvPr/>
          </p:nvSpPr>
          <p:spPr>
            <a:xfrm>
              <a:off x="5356080" y="28875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35812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akage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80720" y="3962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133720" y="396252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Technology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45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bit cell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66680" y="2057400"/>
            <a:ext cx="1752120" cy="3199680"/>
            <a:chOff x="1066680" y="2057400"/>
            <a:chExt cx="1752120" cy="3199680"/>
          </a:xfrm>
        </p:grpSpPr>
        <p:grpSp>
          <p:nvGrpSpPr>
            <p:cNvPr id="113" name=""/>
            <p:cNvGrpSpPr/>
            <p:nvPr/>
          </p:nvGrpSpPr>
          <p:grpSpPr>
            <a:xfrm>
              <a:off x="1369440" y="3707640"/>
              <a:ext cx="643320" cy="1418760"/>
              <a:chOff x="1369440" y="3707640"/>
              <a:chExt cx="643320" cy="14187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10960" y="370764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659240" y="4153320"/>
                <a:ext cx="35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360" y="416628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80480" y="4673880"/>
                <a:ext cx="32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3400" y="466776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369440" y="44161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37560" y="4151880"/>
                <a:ext cx="60120" cy="52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642320" y="2801880"/>
              <a:ext cx="719280" cy="862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2640" y="205740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058280"/>
              <a:ext cx="7491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4760" y="4765680"/>
              <a:ext cx="7840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1640" y="2057400"/>
              <a:ext cx="857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52680" y="2514600"/>
            <a:ext cx="4667400" cy="1391760"/>
            <a:chOff x="3352680" y="2514600"/>
            <a:chExt cx="4667400" cy="1391760"/>
          </a:xfrm>
        </p:grpSpPr>
        <p:grpSp>
          <p:nvGrpSpPr>
            <p:cNvPr id="127" name=""/>
            <p:cNvGrpSpPr/>
            <p:nvPr/>
          </p:nvGrpSpPr>
          <p:grpSpPr>
            <a:xfrm>
              <a:off x="3352680" y="2514600"/>
              <a:ext cx="2196720" cy="1391760"/>
              <a:chOff x="3352680" y="2514600"/>
              <a:chExt cx="2196720" cy="139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2680" y="251460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2680" y="305568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2680" y="336492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08440" y="280836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440" y="35226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08440" y="37861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4560" y="310212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8600" y="34923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3640" y="339552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356400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6520" y="266688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0400" y="4114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M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access 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T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f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ram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curren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olve differential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olve differential equation 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or current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C dV/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2286000"/>
            <a:ext cx="3199680" cy="1979640"/>
            <a:chOff x="2971800" y="2286000"/>
            <a:chExt cx="3199680" cy="1979640"/>
          </a:xfrm>
        </p:grpSpPr>
        <p:grpSp>
          <p:nvGrpSpPr>
            <p:cNvPr id="146" name=""/>
            <p:cNvGrpSpPr/>
            <p:nvPr/>
          </p:nvGrpSpPr>
          <p:grpSpPr>
            <a:xfrm>
              <a:off x="3384720" y="2776320"/>
              <a:ext cx="1685160" cy="1489320"/>
              <a:chOff x="3384720" y="2776320"/>
              <a:chExt cx="1685160" cy="1489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1440" y="2776320"/>
                <a:ext cx="72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760640" y="3708000"/>
                <a:ext cx="205560" cy="557640"/>
                <a:chOff x="4760640" y="3708000"/>
                <a:chExt cx="205560" cy="55764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76064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6324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4657320" y="352152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7320" y="314928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63600" y="277632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3384720" y="3109680"/>
                <a:ext cx="515880" cy="587520"/>
                <a:chOff x="3384720" y="3109680"/>
                <a:chExt cx="515880" cy="587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84720" y="3109680"/>
                  <a:ext cx="515880" cy="587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25560" y="3109680"/>
                  <a:ext cx="0" cy="50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>
                <a:off x="3608280" y="277632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08280" y="2776320"/>
                <a:ext cx="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39520" y="3708000"/>
                <a:ext cx="205560" cy="557640"/>
                <a:chOff x="3539520" y="3708000"/>
                <a:chExt cx="205560" cy="55764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353952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64212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2971800" y="30898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2680" y="31291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6640" y="228600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0" y="495288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657600" y="5181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61214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714680"/>
            <a:ext cx="8316720" cy="4285080"/>
            <a:chOff x="0" y="1714680"/>
            <a:chExt cx="8316720" cy="4285080"/>
          </a:xfrm>
        </p:grpSpPr>
        <p:graphicFrame>
          <p:nvGraphicFramePr>
            <p:cNvPr id="171" name=""/>
            <p:cNvGraphicFramePr/>
            <p:nvPr/>
          </p:nvGraphicFramePr>
          <p:xfrm>
            <a:off x="0" y="186696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75960" y="33912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9480" y="38484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60" y="5295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715000" y="171468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171468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638680" y="346716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095880" y="392400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60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30862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76240" y="1841400"/>
            <a:ext cx="2667240" cy="388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556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11760" y="1816200"/>
            <a:ext cx="4647960" cy="4726800"/>
            <a:chOff x="3911760" y="1816200"/>
            <a:chExt cx="4647960" cy="4726800"/>
          </a:xfrm>
        </p:grpSpPr>
        <p:graphicFrame>
          <p:nvGraphicFramePr>
            <p:cNvPr id="186" name=""/>
            <p:cNvGraphicFramePr/>
            <p:nvPr/>
          </p:nvGraphicFramePr>
          <p:xfrm>
            <a:off x="3911760" y="1816200"/>
            <a:ext cx="3962160" cy="40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1816200"/>
                      <a:ext cx="3962160" cy="40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4521240" y="6083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8440" y="234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35640" y="2120400"/>
              <a:ext cx="3808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9520" y="242568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4760" y="4483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69160" y="37209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2057400"/>
            <a:ext cx="8686800" cy="4495680"/>
            <a:chOff x="228600" y="2057400"/>
            <a:chExt cx="8686800" cy="4495680"/>
          </a:xfrm>
        </p:grpSpPr>
        <p:grpSp>
          <p:nvGrpSpPr>
            <p:cNvPr id="196" name=""/>
            <p:cNvGrpSpPr/>
            <p:nvPr/>
          </p:nvGrpSpPr>
          <p:grpSpPr>
            <a:xfrm>
              <a:off x="1371600" y="2057400"/>
              <a:ext cx="6324840" cy="4495680"/>
              <a:chOff x="1371600" y="2057400"/>
              <a:chExt cx="6324840" cy="4495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397160" y="2744280"/>
                <a:ext cx="5613480" cy="3574440"/>
                <a:chOff x="1397160" y="2744280"/>
                <a:chExt cx="5613480" cy="357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7400" y="3263040"/>
                  <a:ext cx="1524240" cy="8114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29200" y="276372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29200" y="3263040"/>
                  <a:ext cx="1981440" cy="21848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9200" y="557316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816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81640" y="3887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038840" y="586584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57800" y="276480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rit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43320" y="3469680"/>
                  <a:ext cx="762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im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81840" y="563544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ns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9040" y="4012200"/>
                  <a:ext cx="761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mory Ar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67640" y="5448240"/>
                  <a:ext cx="228600" cy="12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67640" y="31381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4800" y="336816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38840" y="581400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A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24240" y="318096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86200" y="2825640"/>
                  <a:ext cx="1143000" cy="62280"/>
                </a:xfrm>
                <a:prstGeom prst="rightArrow">
                  <a:avLst>
                    <a:gd name="adj1" fmla="val 50000"/>
                    <a:gd name="adj2" fmla="val 458815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32160" y="274428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867640" y="59479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51640" y="6072480"/>
                  <a:ext cx="76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47920" y="34308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47920" y="367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47920" y="34621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397160" y="372240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DD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3909600"/>
                  <a:ext cx="609480" cy="124560"/>
                </a:xfrm>
                <a:prstGeom prst="rightArrow">
                  <a:avLst>
                    <a:gd name="adj1" fmla="val 50000"/>
                    <a:gd name="adj2" fmla="val 122327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581640" y="3555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1640" y="3742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840" y="386784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67440" y="57409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267440" y="3742920"/>
                  <a:ext cx="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6040" y="561600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81640" y="3618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96040" y="361800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343400" y="30560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43400" y="286884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96040" y="53665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440" y="557424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7160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1600" y="205740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9644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655308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920" y="3743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11904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80492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4367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280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600" y="346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4055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’/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920" y="44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96440" y="3868200"/>
              <a:ext cx="761760" cy="249480"/>
            </a:xfrm>
            <a:prstGeom prst="rightArrow">
              <a:avLst>
                <a:gd name="adj1" fmla="val 50000"/>
                <a:gd name="adj2" fmla="val 763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96440" y="343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600" y="218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T-RAM Ma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anurag</cp:lastModifiedBy>
  <dcterms:modified xsi:type="dcterms:W3CDTF">2010-05-07T17:54:32Z</dcterms:modified>
  <cp:revision>39</cp:revision>
  <dc:subject/>
  <dc:title>SRAM Generator</dc:title>
</cp:coreProperties>
</file>